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055-DEAE-4E4E-8419-CA4C6A50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137-C236-447D-B6CA-354191EF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0CB-0301-45CF-8FCD-87BDA4AD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2E5-DC60-4F9D-A78F-AC228ABB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64D8-AF08-4ACA-8C80-5A5AD38A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FFC2-7BAD-48A1-8474-F4CFE5C1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3DFF-E847-40C5-88F3-4C592A08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0482-2317-4CE8-9A22-B6510D53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2DF4-A530-4919-9B10-5E954FF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4D63-D070-42DB-BA75-9930528A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0381-B25B-4D18-B4DE-E5698694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43B-87F1-40C0-BF80-72416448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6263-4BA9-4DB6-8FD8-C411E7C8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789E-DA40-43BB-B27E-C43AF64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9AEF-9FFB-485D-B3DF-7C81623A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6EE0-BAFE-45E5-A1BE-5248FB6D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9E1A-8C6B-46F4-8FCB-524EF775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4B5-176D-4FF2-9A6B-49B34BF7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5B1-4A21-4D74-BEB5-B58D03E2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412-7EE3-4B78-B237-7F4CD7B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5F0-470C-40D9-AFEE-6BEB9ED2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555-2E9C-4EF1-BEE7-DC68A3EA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586-5B49-4A05-AA3F-922326B2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228-FEA4-40B7-B5BE-F1F562C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77B-DDD1-4F4D-AD22-6D87FB49902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82BC-99FC-4FAF-A096-59D5CD70AE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ostyor.ru/history/fla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ostyor.ru/history/gerb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0167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КОНСТИТУЦИЯ</a:t>
            </a: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РОССИЙСКОЙ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ФЕДЕРАЦИИ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Что такое “право” и что такое “обязанность”? В чем их различие?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” - это то, что государство гарантирует дать своим гражданам, а вот “обязанность”, наоборот, - это то, что граждане гарантируют дать своему государству. В этом и состоит их различ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78343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тья 1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рава и свободы человека принадлежат каждому от р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тья 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жиз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340000" y="3789360"/>
            <a:ext cx="2303280" cy="160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584360" cy="2376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468360" y="260280"/>
            <a:ext cx="83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тья 2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Каждый имеет право на свободу и личную неприкоснов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тья 2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Жилище неприкосновенно. Никто не вправе проникать в жилище против воли проживающих в нём л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0" t="3357" r="0" b="0"/>
          <a:stretch/>
        </p:blipFill>
        <p:spPr>
          <a:xfrm>
            <a:off x="3924360" y="3357720"/>
            <a:ext cx="3816360" cy="26114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37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труд, право выбирать род деятельности и профессию. Каждый имеет право на отд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62888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5219640" y="3417840"/>
            <a:ext cx="3673440" cy="27018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0503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3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ья находится под защитой государства. Забота о детях, их воспитание – право и обязанность родителей. Дети, достигшие 18 лет, должны заботиться о нетрудоспособных родител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403280" y="4221000"/>
            <a:ext cx="2376720" cy="1640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2087640" cy="1955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7689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41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охрану здоровья и медицинскую помощ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332000" y="2583000"/>
            <a:ext cx="2592360" cy="174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2665440" cy="1944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77612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43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2057400" cy="2800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2754360" cy="162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5003640" y="4508640"/>
            <a:ext cx="2737080" cy="15253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6183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5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обязан сохранять природу и окружающую среду, бережно относиться к природным богат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2990880" cy="217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3024360" cy="20858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026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59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а Отечества является долгом и обязанностью гражданин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1866960" cy="2951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3059280" y="3284640"/>
            <a:ext cx="3024000" cy="1938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2217600" cy="22320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70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флаг, герб и гимн Российской Федерации устанавливаются федеральным законом. Столицей Российской Федерации является город Мос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286080" cy="2190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816280" cy="3311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561000" y="3500280"/>
            <a:ext cx="2583000" cy="3357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ОНСТИТУЦИЯ   РОССИЙС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ФЕДЕРАЦИИ  –  ОСНОВНОЙ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ЗАКО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1895400" cy="28288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790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СКВА  –  СТОЛИЦА 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1887480" cy="25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5940360" y="4780080"/>
            <a:ext cx="2592360" cy="192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516720" y="1628640"/>
            <a:ext cx="1825560" cy="244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3635280" y="1484280"/>
            <a:ext cx="2054160" cy="1709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6"/>
          <a:stretch/>
        </p:blipFill>
        <p:spPr>
          <a:xfrm>
            <a:off x="3564000" y="3573360"/>
            <a:ext cx="2233440" cy="16718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186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80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идент Российской Федерации является главой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5429520" cy="41324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00000" y="259920"/>
            <a:ext cx="7848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111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едатель Правительства Российской Федерации назначается Президентом Российской Федерации с согласия Государственной Ду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2357280" y="2857680"/>
            <a:ext cx="3934080" cy="40003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11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судие в Российской Федерации осуществляется только су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5832360" cy="2103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804000" y="1484280"/>
            <a:ext cx="2157480" cy="51530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оссийской Федерации вступает в силу со дня официального его опубликования по результатам народного голос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всенародного голосования 12 декабря 1993 года считается днём принятия Конституции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азное время в нашей стране были приняты три Конститу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1924 году                            в 1936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1977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1600200" cy="2228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1704960" cy="2190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3708360" y="4705200"/>
            <a:ext cx="1381320" cy="21528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3"/>
          <p:cNvSpPr txBox="1"/>
          <p:nvPr/>
        </p:nvSpPr>
        <p:spPr>
          <a:xfrm>
            <a:off x="2700360" y="404640"/>
            <a:ext cx="432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оль Конституци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363600" y="1341360"/>
            <a:ext cx="835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1.Обеспечивает ставильность в обществе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363600" y="2222640"/>
            <a:ext cx="8353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2.Обеспечивает легитимность и преемственность власти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363600" y="3105000"/>
            <a:ext cx="835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.Закрепляет политическую, социальную 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экономическую основу общества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1" name="WordArt 7"/>
          <p:cNvSpPr txBox="1"/>
          <p:nvPr/>
        </p:nvSpPr>
        <p:spPr>
          <a:xfrm>
            <a:off x="365040" y="4533840"/>
            <a:ext cx="835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4.Определяет политический и правовой режимы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2" name="WordArt 8"/>
          <p:cNvSpPr txBox="1"/>
          <p:nvPr/>
        </p:nvSpPr>
        <p:spPr>
          <a:xfrm>
            <a:off x="365040" y="5416560"/>
            <a:ext cx="8353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5.закрепляет национальное и территориально-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осударственное устройство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осударственный флаг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Picture 3" descr="Флаг Российской Федера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514600"/>
            <a:ext cx="3886200" cy="2646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та принятия: 08.12.20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енный флаг Российской Федерации – это прямоугольное полотнище трех равновеликих горизонтальных полос: верхней – белого цвета, средней – синего, а нижней – красного цве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ерб Российской Федерации (герб России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560" y="4572000"/>
            <a:ext cx="5105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ый герб Росс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29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ел увенчан двумя малыми коронами и – над ними – одной большой короной, соединенными лентой. В правой лапе орла – скипетр, в левой – держава. На груди орла в красном щите – серебряный всадник в синем плаще на серебряном коне, поражающий серебряным копьем черного, опрокинутого навзничь и попранного конем драк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ата принят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20.12.200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Герб Российской Федера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600200"/>
            <a:ext cx="2205000" cy="2666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имн Российской Федерации (гимн России)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(слова С.Михалкова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-й куплет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ссия — священная наша держав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ссия — любимая наша стран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гучая воля, великая слава —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вое достоянье на все времен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-й куплет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 южных морей до полярного края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кинулись наши леса и поля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дна ты на свете! Одна ты такая —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Хранимая Богом родная земля!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-й куплет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ирокий простор для мечты и для жизн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рядущие нам открывают год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м силу дает наша верность Отчизне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ак было, так есть и так будет всегд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о декабря 2000 г. государственным гимном Российской Федерации являлась мелодия, созданная на основе «Патриотической песни» М.И.Глинк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та принятия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07.03.2001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 Конститу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еводе с латинского языка слово “конституция” обозначает “устройство”, то есть то, как устраивается, строится государство. В нашей стране много законов, но главным законом нашего государства, основные правила по которым мы живем, записаны в Конституции. В знак уважения к основному закону страны слово “Конституция” пишется с заглавной бук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Россия есть единое многонациональное демократическое государство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 толковом словаре написано, что “демократия” в переводе с греческого языка переводится как “народ” и “власть” или “народовластие”. Значит, в нашей стране народу принадлежит власть, и он может участвовать в управлении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езидент Росс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42670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“президент” в переводе с латинского языка означает “сидящий впереди, во главе”. Действительно, Президент России – это глава нашего государства, который избирается в соответствии с Конституцией Российской Федерации, в которой оговариваются его права и обязанност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идентом Российской Федерации может быть избран гражданин Российской Федерации не моложе 35 лет, постоянно проживающий в Российской Федерации не менее 10 лет”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астоящее время Президентом России является Дмитрий Анатольевич  Медведев, который совместно с Правительством является исполнительной властью государ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тличие от них, Государственная Дума является законодательной властью. Законодательная, то есть, принимающая законы. Она избирается, как и Президент, всенародно на 4 года. В ее состав входят 450 депутатов. В статьях 96 и 97 Конституции указывается на то, что каждый гражданин с 18 лет может выбирать представителей в Государственную Думу и сам может быть избранным в ее состав, если ему 21 г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4322880" cy="2936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ебная власть.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ть осуществляет правосудие, следит за исполнением законов исполнительной и законодательною властями, разрешает конфликты, восстанавливает права, наказывает правонарушителей. Судебная власть осуществляется только судом, как отмечено в статье 118 Конституции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39:35Z</dcterms:created>
  <dc:creator>Шурик</dc:creator>
  <dc:description/>
  <dc:language>en-US</dc:language>
  <cp:lastModifiedBy>Admin</cp:lastModifiedBy>
  <dcterms:modified xsi:type="dcterms:W3CDTF">2013-12-04T04:28:14Z</dcterms:modified>
  <cp:revision>15</cp:revision>
  <dc:subject/>
  <dc:title>КОНСТИТУЦИЯ  РОССИЙСКОЙ ФЕДЕРАЦИИ</dc:title>
</cp:coreProperties>
</file>